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23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32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2.png" ContentType="image/png"/>
  <Override PartName="/ppt/media/image6.wmf" ContentType="image/x-wmf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DD7-50F1-4ED4-9318-4A116AB5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66B-250E-40E1-B80C-19A433C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F82-9C22-4B16-81F9-61680A5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84F-6089-47FC-8F0E-77962672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124-903D-479F-9E99-087BC6F2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93A1-0824-478E-9F6F-7C541B08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1AC7-390B-47A3-9BC9-700ECA8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5820-AE89-4AC7-AB6D-6A69C147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19FD-1696-4658-B840-2AABCAB7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42DF-1AC1-463B-826A-824AA74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7B5C-A2BA-45D9-B4EC-B573407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1F2-7984-49DB-A7AE-A7BC1549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DE7-FE5D-495C-892A-8608A23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9E7D-1DA4-4BC4-8B27-7C83BF2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6B36-21E4-4614-8567-A0C21580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7A6-634F-410B-BD85-D7314562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94A6-C0A0-4951-B5C0-A6ED93A5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EEF14-691C-4044-9F6B-1A5CEAB6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4A3E-3639-478A-944A-FFBE349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49AC-ECC2-4374-9D6F-70AC0528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9007-B6F9-4BC0-8B04-8B17E63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31B3-10FC-4920-96D0-105C85A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22A-AE35-4593-9FF7-96BC3BB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00F7-B8AA-4404-A369-C245CCA9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66FD-F73B-4CE2-B9BD-975F041F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36FA-3137-4FE1-A6D4-75E91DD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B29F-8594-4DF2-BB44-955C922F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6CF1-98B7-455C-949E-9D43B9A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2C1A-1424-479E-A2A1-A7C41A49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8D17-5506-4535-BE91-8D2B9B79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9237-6F29-4206-850B-133D18FA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5E3A-2E37-4915-AB2D-454A52CC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DE76-88FD-40BF-8678-6B09280D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5B2-2501-4323-AAF3-D3DFF25D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5698-35D7-4290-A3AF-D425ABC2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2B8C-9C4B-45DF-91F3-BCEAEF49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8B04-C4DA-46DB-8D9E-D20A941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A712-8466-459F-B9E1-25FF705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1158-E781-4F72-847B-382DDA32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911B-9F2D-4C9A-8D77-35B6332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7366A-256C-45B0-AA6E-86B4727A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5E60-90CB-4713-9F39-0B39C75F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4E56-97CE-424A-9E65-570C1C0C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2FDE9-401F-497C-8F2D-A5E571CD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A6F-2730-4CC1-BC03-B8ADC895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4FE2-A510-4D01-BA2C-7FCD61C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5A0A-0A8B-4EA6-B6A2-EB0DD104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FC3A-2064-476A-A775-07E6A159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EEF3-9807-4BA4-B627-8A01729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EF12-5EF4-44F0-A132-C868424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F611-D840-4B46-BEF6-8321656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2FF0-8C94-4570-84F0-3DE8776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BF47-FC01-4BC7-A71C-C5BFC70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79E1-7A5B-45C5-B2C1-2FB8A72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62C1-7723-4576-AA7C-40919EDE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60B-7D2F-41AA-AB35-863912A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3F9E1-C17B-4F98-BEC9-E6AEA8B1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6FE-6030-476B-8159-996EE38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11C-CCFC-492A-9DDA-10104B6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10F-56FF-4400-91A9-1155AB1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BAB7-01F5-4128-AE8C-7CBC5E455A6B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7D8-AD21-422D-A505-7967F5D91392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A8C7-D1D7-499E-BFA7-A5294504971D}" type="slidenum">
              <a:rPr b="0" lang="es-MX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292-5C00-4ED5-BB41-96538AEC4AC6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4F1-F166-4CC8-B519-BA10863D60A5}" type="slidenum">
              <a:rPr b="0" lang="es-MX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3 Título" descr=""/>
          <p:cNvPicPr/>
          <p:nvPr/>
        </p:nvPicPr>
        <p:blipFill>
          <a:blip r:embed="rId1"/>
          <a:stretch/>
        </p:blipFill>
        <p:spPr>
          <a:xfrm>
            <a:off x="1116000" y="-128520"/>
            <a:ext cx="6997680" cy="2006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ch@rmin\AppData\Local\Microsoft\Windows\Temporary Internet Files\Content.IE5\A2RJIVVW\MP900433365[1].jpg"/>
          <p:cNvPicPr/>
          <p:nvPr/>
        </p:nvPicPr>
        <p:blipFill>
          <a:blip r:embed="rId2"/>
          <a:stretch/>
        </p:blipFill>
        <p:spPr>
          <a:xfrm>
            <a:off x="1116000" y="1197000"/>
            <a:ext cx="6959520" cy="4621320"/>
          </a:xfrm>
          <a:prstGeom prst="rect">
            <a:avLst/>
          </a:prstGeom>
          <a:ln w="0">
            <a:noFill/>
          </a:ln>
        </p:spPr>
      </p:pic>
      <p:sp>
        <p:nvSpPr>
          <p:cNvPr id="392" name="5 CuadroTexto"/>
          <p:cNvSpPr/>
          <p:nvPr/>
        </p:nvSpPr>
        <p:spPr>
          <a:xfrm>
            <a:off x="1116000" y="522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i="1" lang="es-MX" sz="2800" spc="-1" strike="noStrike">
                <a:solidFill>
                  <a:srgbClr val="ffffff"/>
                </a:solidFill>
                <a:latin typeface="Tw Cen MT"/>
              </a:rPr>
              <a:t>LA ÚNICA DIFERENCIA ENTRE UN BUEN DÍA Y UN MAL DÍA, ES LA ACTITUD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1 Título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480520" cy="853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2916000" y="1197000"/>
            <a:ext cx="58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ocer a través de una disciplina determinada, los contenidos que hay que enseñar su traducción de los objetivo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representaciones para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Trabajar a partir de errores y obstáculos en el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struir y planificar dispositivos y secuencias did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 a los alumnos en las actividades de investigación, en proyectos de conocimient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8" name="Picture 2" descr="C:\Users\ch@rmin\AppData\Local\Microsoft\Windows\Temporary Internet Files\Content.IE5\P85A7GK5\MC900088884[1].wmf"/>
          <p:cNvPicPr/>
          <p:nvPr/>
        </p:nvPicPr>
        <p:blipFill>
          <a:blip r:embed="rId2"/>
          <a:stretch/>
        </p:blipFill>
        <p:spPr>
          <a:xfrm>
            <a:off x="412920" y="1484280"/>
            <a:ext cx="2282760" cy="1944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3"/>
          <a:stretch/>
        </p:blipFill>
        <p:spPr>
          <a:xfrm>
            <a:off x="603360" y="3645000"/>
            <a:ext cx="2047680" cy="2238120"/>
          </a:xfrm>
          <a:prstGeom prst="rect">
            <a:avLst/>
          </a:prstGeom>
          <a:ln w="0">
            <a:noFill/>
          </a:ln>
        </p:spPr>
      </p:pic>
      <p:sp>
        <p:nvSpPr>
          <p:cNvPr id="420" name="3 Flecha curvada hacia la izquierda"/>
          <p:cNvSpPr/>
          <p:nvPr/>
        </p:nvSpPr>
        <p:spPr>
          <a:xfrm>
            <a:off x="7956720" y="6021360"/>
            <a:ext cx="576000" cy="432000"/>
          </a:xfrm>
          <a:custGeom>
            <a:avLst/>
            <a:gdLst>
              <a:gd name="textAreaLeft" fmla="*/ 77040 w 576000"/>
              <a:gd name="textAreaRight" fmla="*/ 498960 w 576000"/>
              <a:gd name="textAreaTop" fmla="*/ 67320 h 432000"/>
              <a:gd name="textAreaBottom" fmla="*/ 3106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4921"/>
                <a:lnTo>
                  <a:pt x="4050" y="21480"/>
                </a:lnTo>
                <a:lnTo>
                  <a:pt x="0" y="16200"/>
                </a:lnTo>
                <a:lnTo>
                  <a:pt x="4050" y="10680"/>
                </a:lnTo>
                <a:lnTo>
                  <a:pt x="4050" y="13380"/>
                </a:lnTo>
                <a:arcTo wR="21600" hR="6750" stAng="3514921" swAng="-30489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1196640"/>
            <a:ext cx="526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ncebir y hacer frente a situaciones problemáticas ajustadas al nivel y a las posibilidades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quirir una visión longitudinal de los problemas de la enseñanz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vínculos con la teorías que sostienen las actividades de aprendizaj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bservar y evaluar a los alumnos en situaciones de aprendizaje según el enfoque de cada asignatu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controles periódicos de competencias y tomar decisiones de progresión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2" name="4 Rectángulo"/>
          <p:cNvSpPr/>
          <p:nvPr/>
        </p:nvSpPr>
        <p:spPr>
          <a:xfrm>
            <a:off x="1547640" y="439560"/>
            <a:ext cx="640908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2. Administrar la progresión de aprendizaje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078360" cy="3148200"/>
          </a:xfrm>
          <a:prstGeom prst="rect">
            <a:avLst/>
          </a:prstGeom>
          <a:ln w="0">
            <a:noFill/>
          </a:ln>
        </p:spPr>
      </p:pic>
      <p:sp>
        <p:nvSpPr>
          <p:cNvPr id="424" name="1 Flecha curvada hacia la izquierda"/>
          <p:cNvSpPr/>
          <p:nvPr/>
        </p:nvSpPr>
        <p:spPr>
          <a:xfrm>
            <a:off x="7956720" y="5950080"/>
            <a:ext cx="647640" cy="574560"/>
          </a:xfrm>
          <a:custGeom>
            <a:avLst/>
            <a:gdLst>
              <a:gd name="textAreaLeft" fmla="*/ 86760 w 647640"/>
              <a:gd name="textAreaRight" fmla="*/ 560880 w 647640"/>
              <a:gd name="textAreaTop" fmla="*/ 89640 h 574560"/>
              <a:gd name="textAreaBottom" fmla="*/ 412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3697"/>
                <a:lnTo>
                  <a:pt x="4800" y="21431"/>
                </a:lnTo>
                <a:lnTo>
                  <a:pt x="0" y="16200"/>
                </a:lnTo>
                <a:lnTo>
                  <a:pt x="4800" y="10631"/>
                </a:lnTo>
                <a:lnTo>
                  <a:pt x="4800" y="13331"/>
                </a:lnTo>
                <a:arcTo wR="21600" hR="6750" stAng="3233697" swAng="-276771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la heterogeneidad en el mismo grup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mpartimentar: extender la gestión de clase a un espacio más ampli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acticar un apoyo integrado: trabajar con alumnos con grandes dificultad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la cooperación entre alumnos y ciertas formas simples de enseñanza mutu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6" name="3 Rectángulo"/>
          <p:cNvSpPr/>
          <p:nvPr/>
        </p:nvSpPr>
        <p:spPr>
          <a:xfrm>
            <a:off x="324000" y="487440"/>
            <a:ext cx="856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3. Concebir y hacer evolucionar los dispositivos de diferenciac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420920" y="4352760"/>
            <a:ext cx="2908080" cy="2178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5076720" y="4352760"/>
            <a:ext cx="2735280" cy="2028960"/>
          </a:xfrm>
          <a:prstGeom prst="rect">
            <a:avLst/>
          </a:prstGeom>
          <a:ln w="0">
            <a:noFill/>
          </a:ln>
        </p:spPr>
      </p:pic>
      <p:sp>
        <p:nvSpPr>
          <p:cNvPr id="429" name="4 Flecha izquierda"/>
          <p:cNvSpPr/>
          <p:nvPr/>
        </p:nvSpPr>
        <p:spPr>
          <a:xfrm>
            <a:off x="8070840" y="6093000"/>
            <a:ext cx="576360" cy="28872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mentar el deseo de aprender, explicitar la relación con el conocimiento, el sentido del trabajo escolar y desarrollar la capacidad de auto-evaluación en el niñ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nstruir y hacer funcionar un consejo de alumnos y negociar con ellos varios tipos de reglas y acuerd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frecer actividades de formación opcionales, es decir, “ A la Carta”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avorecer la definición de un proyecto personal del alum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1" name="3 Rectángulo"/>
          <p:cNvSpPr/>
          <p:nvPr/>
        </p:nvSpPr>
        <p:spPr>
          <a:xfrm>
            <a:off x="324000" y="353880"/>
            <a:ext cx="8424720" cy="82548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4. Envolver a los alumnos en sus aprendizajes y en su trabajo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3105000" y="981000"/>
            <a:ext cx="2762280" cy="2114640"/>
          </a:xfrm>
          <a:prstGeom prst="rect">
            <a:avLst/>
          </a:prstGeom>
          <a:ln w="0">
            <a:noFill/>
          </a:ln>
        </p:spPr>
      </p:pic>
      <p:sp>
        <p:nvSpPr>
          <p:cNvPr id="433" name="4 Flecha curvada hacia la izquierda"/>
          <p:cNvSpPr/>
          <p:nvPr/>
        </p:nvSpPr>
        <p:spPr>
          <a:xfrm>
            <a:off x="8340840" y="5805360"/>
            <a:ext cx="407880" cy="432000"/>
          </a:xfrm>
          <a:custGeom>
            <a:avLst/>
            <a:gdLst>
              <a:gd name="textAreaLeft" fmla="*/ 54360 w 407880"/>
              <a:gd name="textAreaRight" fmla="*/ 353520 w 407880"/>
              <a:gd name="textAreaTop" fmla="*/ 69480 h 432000"/>
              <a:gd name="textAreaBottom" fmla="*/ 311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75" stAng="-5400000" swAng="5400000"/>
                <a:lnTo>
                  <a:pt x="21600" y="12075"/>
                </a:lnTo>
                <a:arcTo wR="21600" hR="6975" stAng="0" swAng="3081284"/>
                <a:lnTo>
                  <a:pt x="5400" y="21379"/>
                </a:lnTo>
                <a:lnTo>
                  <a:pt x="0" y="16500"/>
                </a:lnTo>
                <a:lnTo>
                  <a:pt x="5400" y="11179"/>
                </a:lnTo>
                <a:lnTo>
                  <a:pt x="5400" y="13729"/>
                </a:lnTo>
                <a:arcTo wR="21600" hR="6975" stAng="3081284" swAng="-2647571"/>
                <a:lnTo>
                  <a:pt x="20105" y="9525"/>
                </a:lnTo>
                <a:arcTo wR="21600" hR="6975" stAng="-433713" swAng="-4966287"/>
                <a:close/>
              </a:path>
              <a:path fill="darkenLess" w="21600" h="21600">
                <a:moveTo>
                  <a:pt x="0" y="0"/>
                </a:moveTo>
                <a:arcTo wR="21600" hR="6975" stAng="-5400000" swAng="5400000"/>
                <a:lnTo>
                  <a:pt x="21600" y="12075"/>
                </a:lnTo>
                <a:arcTo wR="21600" hR="6975" stAng="0" swAng="-433713"/>
                <a:lnTo>
                  <a:pt x="20105" y="9525"/>
                </a:lnTo>
                <a:arcTo wR="21600" hR="6975" stAng="-433713" swAng="-4966287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132000" y="1600200"/>
            <a:ext cx="5554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un proyecto de equipo de representaciones comu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ulsar un grupo de trabajo, dirigir reunion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Formar y renovar un equipo pedagógic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frontar y analizar conjuntamente situaciones complejas, prácticas y problemas profesion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Hacer frente a crisis o conflictos entre person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cfc60d"/>
              </a:buClr>
              <a:buSzPct val="11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5" name="3 Rectángulo"/>
          <p:cNvSpPr/>
          <p:nvPr/>
        </p:nvSpPr>
        <p:spPr>
          <a:xfrm>
            <a:off x="3635280" y="523800"/>
            <a:ext cx="4969080" cy="58140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w Cen MT"/>
              </a:rPr>
              <a:t>5. Trabajar en equipo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539640" y="10825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38" name="4 Flecha curvada hacia la izquierda"/>
          <p:cNvSpPr/>
          <p:nvPr/>
        </p:nvSpPr>
        <p:spPr>
          <a:xfrm>
            <a:off x="7885080" y="5877000"/>
            <a:ext cx="719280" cy="531720"/>
          </a:xfrm>
          <a:custGeom>
            <a:avLst/>
            <a:gdLst>
              <a:gd name="textAreaLeft" fmla="*/ 96120 w 719280"/>
              <a:gd name="textAreaRight" fmla="*/ 623160 w 719280"/>
              <a:gd name="textAreaTop" fmla="*/ 82800 h 531720"/>
              <a:gd name="textAreaBottom" fmla="*/ 38232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40058"/>
                <a:lnTo>
                  <a:pt x="3986" y="21484"/>
                </a:lnTo>
                <a:lnTo>
                  <a:pt x="0" y="16200"/>
                </a:lnTo>
                <a:lnTo>
                  <a:pt x="3986" y="10684"/>
                </a:lnTo>
                <a:lnTo>
                  <a:pt x="3986" y="13384"/>
                </a:lnTo>
                <a:arcTo wR="21600" hR="6750" stAng="3540058" swAng="-307407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41000"/>
            <a:ext cx="505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laborar y negociar un proyecto institucion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dministrar los recursos de la escuel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Coordinar, fomentar una escuela con todos los componentes, (extraescolares, del barrio, asociaciones de padres de familia, profesores de lengua y cultura de orige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Organizar y hacer evolucionar, en la misma escuela, la participación de los alumn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0" name="3 Rectángulo"/>
          <p:cNvSpPr/>
          <p:nvPr/>
        </p:nvSpPr>
        <p:spPr>
          <a:xfrm>
            <a:off x="755640" y="476280"/>
            <a:ext cx="756144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6. Participar en la administración de la escuel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5578560" y="1341360"/>
            <a:ext cx="3074760" cy="2190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5578560" y="3855960"/>
            <a:ext cx="3082680" cy="2309760"/>
          </a:xfrm>
          <a:prstGeom prst="rect">
            <a:avLst/>
          </a:prstGeom>
          <a:ln w="0">
            <a:noFill/>
          </a:ln>
        </p:spPr>
      </p:pic>
      <p:sp>
        <p:nvSpPr>
          <p:cNvPr id="443" name="4 Flecha izquierda"/>
          <p:cNvSpPr/>
          <p:nvPr/>
        </p:nvSpPr>
        <p:spPr>
          <a:xfrm>
            <a:off x="4284720" y="6021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84200" y="783720"/>
            <a:ext cx="53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Favorecer reuniones informativas y de debate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Dirigir la reunione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dfe6d0"/>
                </a:solidFill>
                <a:latin typeface="Tw Cen MT"/>
              </a:rPr>
              <a:t>Implicar a los padres en la valoración de la construcción de los conocimiento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5" name="3 Rectángulo"/>
          <p:cNvSpPr/>
          <p:nvPr/>
        </p:nvSpPr>
        <p:spPr>
          <a:xfrm>
            <a:off x="484200" y="260280"/>
            <a:ext cx="5505480" cy="94716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7. Informar y envolver a los padr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4 Rectángulo"/>
          <p:cNvSpPr/>
          <p:nvPr/>
        </p:nvSpPr>
        <p:spPr>
          <a:xfrm>
            <a:off x="3363840" y="2709720"/>
            <a:ext cx="5249880" cy="9471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8. Utilizar nuevas tecnología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2 Marcador de contenido"/>
          <p:cNvSpPr/>
          <p:nvPr/>
        </p:nvSpPr>
        <p:spPr>
          <a:xfrm>
            <a:off x="3111480" y="3232080"/>
            <a:ext cx="5853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“ </a:t>
            </a:r>
            <a:r>
              <a:rPr b="0" lang="es-MX" sz="2100" spc="-1" strike="noStrike" u="sng">
                <a:solidFill>
                  <a:srgbClr val="00b0f0"/>
                </a:solidFill>
                <a:uFillTx/>
                <a:latin typeface="Tw Cen MT"/>
              </a:rPr>
              <a:t>El deber de los profesores es integrarse en el universo de los alumnos”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programas de edición de los document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Explorar los potenciales didácticos de programas en relación con los objetivos de dominios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52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Comunicarse a distancia a través de la telemática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w Cen MT"/>
              </a:rPr>
              <a:t>Utilizar los instrumentos de multimedia en la enseñanza</a:t>
            </a:r>
            <a:r>
              <a:rPr b="0" lang="es-MX" sz="1800" spc="-1" strike="noStrike">
                <a:solidFill>
                  <a:srgbClr val="ffffff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395280" y="3578400"/>
            <a:ext cx="2681280" cy="2601720"/>
          </a:xfrm>
          <a:prstGeom prst="rect">
            <a:avLst/>
          </a:prstGeom>
          <a:ln w="0">
            <a:noFill/>
          </a:ln>
        </p:spPr>
      </p:pic>
      <p:sp>
        <p:nvSpPr>
          <p:cNvPr id="450" name="6 Flecha curvada hacia la izquierda"/>
          <p:cNvSpPr/>
          <p:nvPr/>
        </p:nvSpPr>
        <p:spPr>
          <a:xfrm>
            <a:off x="8028000" y="6180120"/>
            <a:ext cx="585720" cy="344520"/>
          </a:xfrm>
          <a:custGeom>
            <a:avLst/>
            <a:gdLst>
              <a:gd name="textAreaLeft" fmla="*/ 78480 w 585720"/>
              <a:gd name="textAreaRight" fmla="*/ 507240 w 585720"/>
              <a:gd name="textAreaTop" fmla="*/ 53640 h 344520"/>
              <a:gd name="textAreaBottom" fmla="*/ 2476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870174"/>
                <a:lnTo>
                  <a:pt x="3184" y="21526"/>
                </a:lnTo>
                <a:lnTo>
                  <a:pt x="0" y="16200"/>
                </a:lnTo>
                <a:lnTo>
                  <a:pt x="3184" y="10726"/>
                </a:lnTo>
                <a:lnTo>
                  <a:pt x="3184" y="13426"/>
                </a:lnTo>
                <a:arcTo wR="21600" hR="6750" stAng="3870174" swAng="-3404187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531360" y="980640"/>
            <a:ext cx="81867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revenir la violencia en la escuela o en la ciudad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Luchar contra los prejuicios y las discriminaciones sexuales, étnicas y social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Participar en la creación de reglas de la vida común referentes a la disciplina en la escuela, las sanciones, la apreciación dela conduct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nalizar la relación pedagógica, la autoridad y la comunicación en la cla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Desarrollar el sentido de la responsabilidad, la solidaridad y el sentimiento de justici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2" name="3 Rectángulo"/>
          <p:cNvSpPr/>
          <p:nvPr/>
        </p:nvSpPr>
        <p:spPr>
          <a:xfrm>
            <a:off x="539640" y="349200"/>
            <a:ext cx="8209080" cy="825480"/>
          </a:xfrm>
          <a:prstGeom prst="rect">
            <a:avLst/>
          </a:prstGeom>
          <a:solidFill>
            <a:srgbClr val="ffad1c"/>
          </a:solidFill>
          <a:ln w="15840">
            <a:solidFill>
              <a:srgbClr val="bc7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w Cen MT"/>
              </a:rPr>
              <a:t>9. Enfrentar los deberes y los dilemas éticos de la profesió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547640" y="5022720"/>
            <a:ext cx="2232360" cy="162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2"/>
          <a:stretch/>
        </p:blipFill>
        <p:spPr>
          <a:xfrm>
            <a:off x="5292720" y="5022720"/>
            <a:ext cx="1808280" cy="1611360"/>
          </a:xfrm>
          <a:prstGeom prst="rect">
            <a:avLst/>
          </a:prstGeom>
          <a:ln w="0">
            <a:noFill/>
          </a:ln>
        </p:spPr>
      </p:pic>
      <p:sp>
        <p:nvSpPr>
          <p:cNvPr id="455" name="4 Flecha curvada hacia la izquierda"/>
          <p:cNvSpPr/>
          <p:nvPr/>
        </p:nvSpPr>
        <p:spPr>
          <a:xfrm>
            <a:off x="7956720" y="59500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6960" y="2997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Saber explicar sus prác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Establecer un control de competencias y un programa personal de formación continú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Negociar un proyecto de formación común con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Implicarse en la tareas a nivel general de la enseñanza o sistema educativ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64600" indent="-2646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Aceptar y participar en la formación de los comp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57" name="3 Rectángulo"/>
          <p:cNvSpPr/>
          <p:nvPr/>
        </p:nvSpPr>
        <p:spPr>
          <a:xfrm>
            <a:off x="187560" y="549360"/>
            <a:ext cx="8532360" cy="520560"/>
          </a:xfrm>
          <a:prstGeom prst="rect">
            <a:avLst/>
          </a:prstGeom>
          <a:solidFill>
            <a:srgbClr val="cfc60d"/>
          </a:solidFill>
          <a:ln w="15840">
            <a:solidFill>
              <a:srgbClr val="989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w Cen MT"/>
              </a:rPr>
              <a:t>10. Administrar sus propia formación continúa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626160" cy="6308640"/>
          </a:xfrm>
          <a:prstGeom prst="rect">
            <a:avLst/>
          </a:prstGeom>
          <a:ln w="0">
            <a:noFill/>
          </a:ln>
        </p:spPr>
      </p:pic>
      <p:sp>
        <p:nvSpPr>
          <p:cNvPr id="460" name="3 CuadroTexto"/>
          <p:cNvSpPr/>
          <p:nvPr/>
        </p:nvSpPr>
        <p:spPr>
          <a:xfrm>
            <a:off x="2484360" y="263700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CAMBIEMOS DE ACTITUD: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¡QUE TENGAN MUY BUEN DÍA!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3565440" y="549360"/>
            <a:ext cx="5413320" cy="2517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4076280"/>
            <a:ext cx="6778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dfe6d0"/>
                </a:solidFill>
                <a:latin typeface="Tw Cen MT"/>
              </a:rPr>
              <a:t>        </a:t>
            </a:r>
            <a:endParaRPr b="0" lang="en-US" sz="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fe6d0"/>
              </a:solidFill>
              <a:latin typeface="Tw Cen M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4000" spc="-1" strike="noStrike">
                <a:solidFill>
                  <a:srgbClr val="dfe6d0"/>
                </a:solidFill>
                <a:latin typeface="Tw Cen MT"/>
              </a:rPr>
              <a:t>Si quieres cambiar al mundo, cámbiate a ti mismo” (Mahatma Gandhi)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5" name="Picture 2" descr="C:\Users\ch@rmin\AppData\Local\Microsoft\Windows\Temporary Internet Files\Content.IE5\A2RJIVVW\MC900435410[1].wmf"/>
          <p:cNvPicPr/>
          <p:nvPr/>
        </p:nvPicPr>
        <p:blipFill>
          <a:blip r:embed="rId2"/>
          <a:stretch/>
        </p:blipFill>
        <p:spPr>
          <a:xfrm>
            <a:off x="6980400" y="3357720"/>
            <a:ext cx="1488960" cy="1854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C:\Users\ch@rmin\AppData\Local\Microsoft\Windows\Temporary Internet Files\Content.IE5\6KDBY9K4\MP900409048[1].jpg"/>
          <p:cNvPicPr/>
          <p:nvPr/>
        </p:nvPicPr>
        <p:blipFill>
          <a:blip r:embed="rId3"/>
          <a:stretch/>
        </p:blipFill>
        <p:spPr>
          <a:xfrm>
            <a:off x="1258920" y="1989000"/>
            <a:ext cx="2952720" cy="196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1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Un alumno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competente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no es aquel que sabe más en teoría, sino aquel que pone el </a:t>
            </a:r>
            <a:r>
              <a:rPr b="1" i="1" lang="es-MX" sz="3200" spc="-1" strike="noStrike" u="sng">
                <a:solidFill>
                  <a:srgbClr val="dfe6d0"/>
                </a:solidFill>
                <a:uFillTx/>
                <a:latin typeface="Tw Cen MT"/>
              </a:rPr>
              <a:t>práctica</a:t>
            </a:r>
            <a:r>
              <a:rPr b="0" lang="es-MX" sz="3200" spc="-1" strike="noStrike">
                <a:solidFill>
                  <a:srgbClr val="dfe6d0"/>
                </a:solidFill>
                <a:latin typeface="Tw Cen MT"/>
              </a:rPr>
              <a:t> lo que ha aprendido adelantándose siempre a lo que es obvio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9" name="Picture 2" descr="C:\Users\ch@rmin\AppData\Local\Microsoft\Windows\Temporary Internet Files\Content.IE5\A2RJIVVW\MC900343353[1].wmf"/>
          <p:cNvPicPr/>
          <p:nvPr/>
        </p:nvPicPr>
        <p:blipFill>
          <a:blip r:embed="rId2"/>
          <a:stretch/>
        </p:blipFill>
        <p:spPr>
          <a:xfrm>
            <a:off x="3132000" y="3573360"/>
            <a:ext cx="302436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1 Título" descr=""/>
          <p:cNvPicPr/>
          <p:nvPr/>
        </p:nvPicPr>
        <p:blipFill>
          <a:blip r:embed="rId1"/>
          <a:stretch/>
        </p:blipFill>
        <p:spPr>
          <a:xfrm>
            <a:off x="73080" y="219240"/>
            <a:ext cx="9028080" cy="1712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C:\Users\ch@rmin\AppData\Local\Microsoft\Windows\Temporary Internet Files\Content.IE5\A2RJIVVW\MP900409335[1]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8980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1" lang="es-MX" sz="3600" spc="-1" strike="noStrike">
                <a:solidFill>
                  <a:srgbClr val="dfe6d0"/>
                </a:solidFill>
                <a:latin typeface="Tw Cen MT"/>
              </a:rPr>
              <a:t>El cambio en los paradigmas educativos actuales (RIEB), genera un cambio en los docentes”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979640" y="2557440"/>
            <a:ext cx="52624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05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 docentes don un cúmulo de habilidades, conocimientos y procesos orientados a lograr un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desempeño óptimo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adecuado en el área educativa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ffad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Las competencias docentes </a:t>
            </a:r>
            <a:r>
              <a:rPr b="1" i="1" lang="es-MX" sz="2800" spc="-1" strike="noStrike" u="sng">
                <a:solidFill>
                  <a:srgbClr val="dfe6d0"/>
                </a:solidFill>
                <a:uFillTx/>
                <a:latin typeface="Tw Cen MT"/>
              </a:rPr>
              <a:t>son varias </a:t>
            </a:r>
            <a:r>
              <a:rPr b="0" lang="es-MX" sz="2800" spc="-1" strike="noStrike">
                <a:solidFill>
                  <a:srgbClr val="dfe6d0"/>
                </a:solidFill>
                <a:latin typeface="Tw Cen MT"/>
              </a:rPr>
              <a:t>y cada una exige un dominio y desarrollo alto para ser capaz de enfrentar las situacion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4670280" y="3645000"/>
            <a:ext cx="4294440" cy="257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18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3 Rectángulo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491680" cy="3133440"/>
          </a:xfrm>
          <a:prstGeom prst="rect">
            <a:avLst/>
          </a:prstGeom>
          <a:ln w="0">
            <a:noFill/>
          </a:ln>
        </p:spPr>
      </p:pic>
      <p:pic>
        <p:nvPicPr>
          <p:cNvPr id="412" name="4 Rectángulo" descr=""/>
          <p:cNvPicPr/>
          <p:nvPr/>
        </p:nvPicPr>
        <p:blipFill>
          <a:blip r:embed="rId3"/>
          <a:stretch/>
        </p:blipFill>
        <p:spPr>
          <a:xfrm>
            <a:off x="3633840" y="3121200"/>
            <a:ext cx="52610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Users\ch@rmin\AppData\Local\Microsoft\Windows\Temporary Internet Files\Content.IE5\A2RJIVVW\MC900434901[1].png"/>
          <p:cNvPicPr/>
          <p:nvPr/>
        </p:nvPicPr>
        <p:blipFill>
          <a:blip r:embed="rId2"/>
          <a:stretch/>
        </p:blipFill>
        <p:spPr>
          <a:xfrm>
            <a:off x="6732720" y="31417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3" action="ppaction://hlinksldjump"/>
              </a:rPr>
              <a:t>Organizar y dirigir situaciones de aprendizaje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4" action="ppaction://hlinksldjump"/>
              </a:rPr>
              <a:t>Administrar la progresión de aprendizaj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5" action="ppaction://hlinksldjump"/>
              </a:rPr>
              <a:t>Concebir y hacer evolucionar los dispositivos de diferenciac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6" action="ppaction://hlinksldjump"/>
              </a:rPr>
              <a:t>Envolver a los alumnos en sus aprendizajes y en su trabaj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7" action="ppaction://hlinksldjump"/>
              </a:rPr>
              <a:t>Trabajar en equipo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8" action="ppaction://hlinksldjump"/>
              </a:rPr>
              <a:t>Participar en la administración de la escuela</a:t>
            </a: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9" action="ppaction://hlinksldjump"/>
              </a:rPr>
              <a:t>Informar y envolver a los padre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 u="sng">
                <a:solidFill>
                  <a:srgbClr val="66aacd"/>
                </a:solidFill>
                <a:uFillTx/>
                <a:latin typeface="Tw Cen MT"/>
                <a:hlinkClick r:id="rId10" action="ppaction://hlinksldjump"/>
              </a:rPr>
              <a:t>Utilizar nuevas tecnologías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Enfrentar los deberes y los dilemas éticos de la profesión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  <a:p>
            <a:pPr marL="457200" indent="-457200">
              <a:spcBef>
                <a:spcPts val="624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dfe6d0"/>
                </a:solidFill>
                <a:latin typeface="Tw Cen MT"/>
              </a:rPr>
              <a:t>Administrar sus propia formación continúa.</a:t>
            </a:r>
            <a:endParaRPr b="0" lang="en-US" sz="25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28:58Z</dcterms:created>
  <dc:creator>ch@rmin</dc:creator>
  <dc:description/>
  <dc:language>en-US</dc:language>
  <cp:lastModifiedBy>ch@rmin</cp:lastModifiedBy>
  <dcterms:modified xsi:type="dcterms:W3CDTF">2012-02-19T16:37:23Z</dcterms:modified>
  <cp:revision>28</cp:revision>
  <dc:subject/>
  <dc:title>¡BIENVENIDOS!</dc:title>
</cp:coreProperties>
</file>